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BAA-6FD5-40D5-949C-4071DF76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1C6-8A9E-4A4D-8C29-BA25C892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85B-C713-4A39-B2F9-6141333D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39D-7873-4CF2-AA51-935F8AF0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F4B2E-E714-441B-A0F5-964E7D9F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42FF3-8830-4814-83C8-A0FFEA22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341CD-C1A3-4F74-A2CE-C1BE33A4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E107F-6EF7-4D59-9BA9-D168F07E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23524-113D-445D-A427-77BFECDB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67053-B2DE-447B-8622-238A3BE9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C236C-95A7-4157-A316-90CAD3BD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93A-8907-48DE-B477-2D6ADC43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E3D51-F3AA-4952-B218-1D9ED76C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5903A-F426-4376-9972-BE26D12E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07269-2725-4503-A2C6-8443AEAC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F82E1-8B84-45F1-BB81-32121288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E0623-03EE-464B-93D4-7DAEE947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78B-1ABB-44E8-A574-C579BA0D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AB0-4F34-4E11-A6E5-885E445C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A59-17FA-4139-B5CB-3E7658F5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65E-BEF7-4AEF-BE22-BDC75844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331-4325-46C1-B328-8ADD526C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8A3-9AB8-45CE-BAA2-F6A76856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2E0-E645-494D-AC64-CBE8DFB3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DE6C-9209-42BC-9E1D-348E93529E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FDD2-7C00-46B0-860C-D6B56E949B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IP-2 Air Qualit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AIR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 Dickerson, US E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kerson.phil@epa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bjectives and Envisioned Ro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  Contribute data that I collect and get data that you col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sioned role:  supply services to GEOSS. Represent EPA’s stakeholders – forecasters, modelers, monitoring personnel, and the public, in constructing apps that advance the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ervices, Data, Components and Other Inpu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981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67652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vices:  current – demo of WCS service;  future – you tell u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:  near real-time measurements of Ozone, PM2.5, PM10, and some other pollutants, from more than 3000 surface stations;  MSA-level AQI forecasts for nearly 400 cities;  future – fused surfaces (NOAA AQF model, satellite measuremen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nents:  AIRNow Gateway – US service-oriented system connected to AIRNow real-time database;  AIRNow-International Information Services – International analog to Gateway, will be piloted in Shanghai, Chi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 inputs – data from mobile monitor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xpectation, Desired Outcome from AIP-2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60020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ation:  barely controlled chaos, in the most positive sense; excitement;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red outcom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s for data sources and components that can be used alongside AIRNow to serve SB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rity and agreement on standards, best practices, and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er” scen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zation of the word AIR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3:23:17Z</dcterms:created>
  <dc:creator>Phil Dickerson</dc:creator>
  <dc:description/>
  <dc:language>en-US</dc:language>
  <cp:lastModifiedBy>Phil Dickerson</cp:lastModifiedBy>
  <dcterms:modified xsi:type="dcterms:W3CDTF">2008-09-26T03:45:43Z</dcterms:modified>
  <cp:revision>4</cp:revision>
  <dc:subject/>
  <dc:title>AIP-2 Air Quality</dc:title>
</cp:coreProperties>
</file>